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9D2-F825-4D84-87BB-D27BFC53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D6C-8492-456B-BC28-C576E7C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7BE-68A8-43E6-845C-CDFEEE29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5A5-F787-4278-9F0C-1A11310D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2AB-DDF9-469C-A148-BED537A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4F5-2013-4617-AFB4-6528A12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A0F-79C1-4230-ADFA-4956BBF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0B9-0AAB-4EFF-9D8C-89818633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FB7-52C8-47F7-996B-D96E712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558-732F-467D-8A79-610EAC8D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CFE-2A4F-48EE-A520-42315C2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B92-DCFE-4634-8298-9317870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EE7-4897-4B50-B2C5-7135E831E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1: Three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2: Checks and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3: Bill to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Y INTERPRET THE LAWS (Article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qu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tle civil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cide innocence or g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dversarial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Federal Cour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.S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tate Court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erio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Federal Court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ederal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putes b/w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itizens of differen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ederal Gov’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oreign Gov’t and tre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miralty and Maritime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.S. Diplom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clusive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current Jurisdi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riminal, Civil, Administrative, Statu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U.S. Supreme Court has BOTH (Constitu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riginal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ppellate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deral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me Court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 of Appeal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Courts=Original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Magis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inions &amp; Prece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Judges=Appo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sarial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lea Barg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trict Courts hold all types of trial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 Members (8 +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ointed &amp; appr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ooses what cases they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p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V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only hear cases sent to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ur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ct-June/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ief, Arguments,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cial Conditions *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Importan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e v. W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essy v. Fergu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rown v. Board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inker v. Des Mo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iranda v.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ideon v. Wain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wann v. Charlotte-Meckl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te v. 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orematsu v.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red Scott v. Sand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exas v. Joh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zelwood School District v. Kuhlm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cCulloch v.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ibbons v. Og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.J. v. T.L.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pp v. O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2: Checks and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rd over-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Bureau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War Powers Act of 19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n’t bypass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fig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3: Bill to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($ in House!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, Criminal, Administrative, Statu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EPA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ill-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itizens, Interest Groups, Whit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iven a Title &amp; Number (S.1, H.R.1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ommitte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nding Committee (expe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ss, Change, Replace, Ignore,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gue over good/bad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use; Priority, Senate;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illibuster, Clo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ice, Standing, Roll-Call,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dentical versions must be pa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either house rejects, bill 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nferenc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ttl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esidentia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eto (2/3 Majority to over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cket 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Three Branche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ve Branch (THEY MAKE THE LA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Population;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35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rryma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Impeach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wo year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jority v. Minority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rty W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88240" y="345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ongressional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use of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peaker of the House (M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ooses what to talk ab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sident Pro Temp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ice President’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ust take bill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ongressional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lect/J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eniori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nference Committ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owers of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ressed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mplied Pow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Imp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lock 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pose Amend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Limits on Congression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rit of Habeas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ills of Atta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x Post Facto La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Qualifications for Ho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25 y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7 yr U.S. Cit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Qualifications for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30 y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9 yr U.S. Cit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$165,200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anking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5760" y="52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xecutive Branch (THEY ENFORCE THE L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t least 3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ative-born American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sident of the U.S. for at least 14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re experience is necessary,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President of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African American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woman candidate for V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Jewish candidate for V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very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oral Colleg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t Popula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Electoral votes (#House +#Se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opul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270/5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 majority goes to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2n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C Movi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alary &amp;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400,000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 for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ite House, 80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mp David, Air Forc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e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jor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s over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tes in case of tie (ARTICL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25th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 of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nt Pro Tem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the Interior.. Page 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residential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eto Legislation (B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all Congressional Special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Foreig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Make Tre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Appoint Judges, Ambassadors (senate appro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ardon or Reprie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War Powers Act of 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Presidential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ief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ecutiv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hief Diplo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oreig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 charge of the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clare war with Congressional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Head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Presidential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cretary of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ge 2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Executive Office of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500 peopl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10-12 personal ad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DA, CDC,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8:12:21Z</dcterms:created>
  <dc:creator>Chatham County</dc:creator>
  <dc:description/>
  <dc:language>en-US</dc:language>
  <cp:lastModifiedBy>Chatham County</cp:lastModifiedBy>
  <dcterms:modified xsi:type="dcterms:W3CDTF">2010-09-29T12:54:50Z</dcterms:modified>
  <cp:revision>3</cp:revision>
  <dc:subject/>
  <dc:title>Unit 2  National Government</dc:title>
</cp:coreProperties>
</file>